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A08E-7038-473F-A70A-2ECBB924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AE8B-1443-434D-9932-398DC77F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1C29-D99F-4036-ACBB-99D7DD0B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E418-6E9E-4547-885C-F3C0656F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DDF8-05A7-4168-86B2-D618CBD4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A1EB-6325-4C3E-BC99-1BC6C209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8E8D-D5A2-4CB4-9622-E18F9801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20A0-E43A-48BE-9F3A-EDF9C1F2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4040-EC56-465C-A98C-5ECD468A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26E7-AF78-402E-958E-404868D3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8972-1D1B-4D02-80C5-5794690D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7420-9FD7-493D-9C65-BDA1320F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0509-E5BA-493B-AAC5-49AE30530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Clase 701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23 de septiembre del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8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practicamos para la Prueba del Repaso 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e with the correct form of the ver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chicos no ________ para el examen. (estudi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os ________ una prueba. (tom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_ muchos lápices. (compr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no __________ italiano. (hab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__ el programa de televisión. (mir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____________ ustedes al profesor? (escuch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048120" y="3200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estudian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362320" y="4038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oma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5238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compro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743200" y="4952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hablamos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14479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miras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371600" y="5867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escuchan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Dónde compras una camise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Hablas con el empleado en la tien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Que talla us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uanto pag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Donde pag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85800" y="19051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Compro una camiseta en la tienda de ropa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685800" y="26668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Si hablo con el empleado en la tienda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85800" y="35053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Uso talla _______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85800" y="43434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Pago ________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685800" y="539424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Pago en la caja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"/>
              </a:rPr>
              <a:t>La preposición “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  The preposition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“A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“to, toward”. This preposition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“A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ten follows the verb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“i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  When the preposition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“A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followed by the definite article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“el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two words “contract” to form one word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“a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l”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….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e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ll other definite articles they stay as two separat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oy a el parque.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oy a la ti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oy a las cl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oy a los par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"/>
          <p:cNvSpPr/>
          <p:nvPr/>
        </p:nvSpPr>
        <p:spPr>
          <a:xfrm>
            <a:off x="1066680" y="3809880"/>
            <a:ext cx="6858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1143000" y="3886200"/>
            <a:ext cx="53352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 flipH="1">
            <a:off x="1143000" y="3886200"/>
            <a:ext cx="53352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4116600" y="3809880"/>
            <a:ext cx="21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y </a:t>
            </a: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a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qu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 la Tarea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Vas a la escue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A qué hora vas a la escue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on quién vas a la escue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van ustedes a la escue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stán ustedes en la escuela aho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pués de las clases, ¿van ustedes al caf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914400" y="2281320"/>
            <a:ext cx="716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Si voy a la escuela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066680" y="2814480"/>
            <a:ext cx="716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Yo voy a la escuela a las ocho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066680" y="3424320"/>
            <a:ext cx="716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Voy a la escuela con..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990720" y="4033800"/>
            <a:ext cx="807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Vamos a la escuela a pie </a:t>
            </a:r>
            <a:r>
              <a:rPr b="0" lang="es-ES_tradnl" sz="2400" spc="-1" strike="noStrike">
                <a:solidFill>
                  <a:srgbClr val="0000ff"/>
                </a:solidFill>
                <a:latin typeface="Verdana"/>
              </a:rPr>
              <a:t>(en bus, en carro..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066680" y="4643280"/>
            <a:ext cx="716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No (si) estamos en la escuela ahora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90720" y="5265720"/>
            <a:ext cx="7162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No, despues de las clases no vamos al cafe 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 la Tarea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____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i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la papeleria. Elis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___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ir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bien. Ella y y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_________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esta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 la tienda. Y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_________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necesitar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calculadora para la clase de matematicas. Y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________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buscar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calculadora. Elis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6) 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 solamente un cuade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7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__________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omprar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 calculadora y Elis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8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____________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omprar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 cuaderno. Nosotro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9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agar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la caja. Nosotro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1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habla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la dependie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133720" y="1447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voy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85800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va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411480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estamos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676520" y="227016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necesito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556272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busco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209680" y="3809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compro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182880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compra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219320" y="4572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pagamos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1143000" y="5029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hablamos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11480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necesita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b050"/>
                </a:solidFill>
                <a:latin typeface="Arial"/>
              </a:rPr>
              <a:t>I- 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Identifica el lug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nde los alumnos compran sus materiales escola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nde los alumnos toman el almuerz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nde los alumnos compran la ropa que necesitan para la escuel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onde tienen que ir los alumnos para pag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 que usan los alumnos para llevar sus libros y materiales escolares a la escuel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 que usan los alumnos para tomar apuntes en cla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b050"/>
                </a:solidFill>
                <a:latin typeface="Arial"/>
              </a:rPr>
              <a:t>II- 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Write the name of five color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685800" y="1584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En la papelería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685800" y="228600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En la cafetería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85800" y="32608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En la tienda de ropa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762120" y="39466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En la caja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685800" y="493704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Una mochila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152280" y="562284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Un bolígrafo (una pluma, un lápiz, un papel, un cuaderno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8600" y="638496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Verde, rojo, blanco, negro, azul, amarillo, gris….etc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28600" y="7567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b050"/>
                </a:solidFill>
                <a:latin typeface="Arial"/>
              </a:rPr>
              <a:t>II- 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Copia y completa con la forma correcta del ver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_ español en la escuel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tudi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_ atención cuando el profesor _______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prestar, hab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 mucho en la clase de español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hab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 muchos apuntes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m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rofesor _______ un examen y los alumnos __________ el examen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dar, tom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___________ ustedes español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tudi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antos cursos _________ (tú) y cuantos __________ tus amigos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mar, tom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438280" y="127944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estudiamos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438280" y="205740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prestamos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143000" y="24541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habla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362320" y="297180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hablamos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447920" y="38098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tomo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124080" y="41911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da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371600" y="46483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toman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1447920" y="51814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Estudian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3809880" y="55627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tomas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1066680" y="60040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toman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Repaso Gramatical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labras Interrog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6320" y="1722600"/>
            <a:ext cx="899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poder hacer preguntas necesitamos las PALABRAS INTERROGATIVAS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In order to answer questions, we need interrogative word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spañol, siempre debemos usar 2 signos de interrogacion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In Spanish, we must always use 2 question 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labras Interrogativas</a:t>
            </a:r>
            <a:br>
              <a:rPr sz="4400"/>
            </a:b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(Question wor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én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do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ónde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l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to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276720" y="1671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o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276720" y="2205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at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276720" y="2814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en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352680" y="3424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ere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352680" y="3957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How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429000" y="4567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y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429000" y="5100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ich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505320" y="5710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How much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PALABRAS INTERROG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6:24:21Z</dcterms:created>
  <dc:creator>Helen Zumaeta</dc:creator>
  <dc:description/>
  <dc:language>en-US</dc:language>
  <cp:lastModifiedBy>Helen Zumaeta</cp:lastModifiedBy>
  <cp:lastPrinted>2014-09-22T17:39:50Z</cp:lastPrinted>
  <dcterms:modified xsi:type="dcterms:W3CDTF">2014-09-22T21:50:38Z</dcterms:modified>
  <cp:revision>16</cp:revision>
  <dc:subject/>
  <dc:title>Me llamo _______ Clase 6 nh/il La fecha es 10 de febrero del 2011</dc:title>
</cp:coreProperties>
</file>